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E3D-2A8C-48C6-A700-2813931E2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op / con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t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, service provider, end us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?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o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(pre/post deployment)? Constant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is it wor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Zero if everything works.  But what about when it doesn’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920-3CE8-43B7-B6D7-62DD00DE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DC-AFC1-4C7F-9CA4-EEA9582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D07-2708-431E-8C94-0E076F6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6F0-BFE2-4581-A076-88DF6348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9800" y="228240"/>
            <a:ext cx="8521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9DD-9BB2-44A0-9F60-95A05FB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51720"/>
            <a:ext cx="264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5B3-03FD-4C8F-B12D-41BB9CB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512-2604-4000-8ED4-0F4B9D9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1BF-D9C0-44D9-9ACB-E6E3057F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9800" y="228240"/>
            <a:ext cx="8521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26E-319B-4F33-A051-8C4DBA7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2E9-AE04-4C4D-95D5-29FAA2E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172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4F6-AB3A-4EF0-9B44-FDB5E23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1720"/>
            <a:ext cx="82296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D8F-FC8D-4235-8FE6-A279346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51560"/>
            <a:ext cx="19051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4840" y="6451560"/>
            <a:ext cx="2895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3200" y="6451560"/>
            <a:ext cx="19047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99"/>
                </a:solidFill>
                <a:latin typeface="Futu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139-8E62-4356-9ED3-F4B74AF9830B}" type="slidenum">
              <a:rPr b="0" lang="en-US" sz="1000" spc="-1" strike="noStrike">
                <a:solidFill>
                  <a:srgbClr val="000099"/>
                </a:solidFill>
                <a:latin typeface="Futur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5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utu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914400" algn="ctr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3" marL="1371600" algn="ctr">
              <a:spcBef>
                <a:spcPts val="224"/>
              </a:spcBef>
              <a:buClr>
                <a:srgbClr val="ffffff"/>
              </a:buClr>
              <a:buFont typeface="Futu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4" marL="1828800" algn="ctr">
              <a:spcBef>
                <a:spcPts val="224"/>
              </a:spcBef>
              <a:buClr>
                <a:srgbClr val="ffffff"/>
              </a:buClr>
              <a:buFont typeface="Futur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5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General meeting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49360" y="2222640"/>
            <a:ext cx="64008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iew of fiscal year ending June 30, 2004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nd beginning July 1, 2004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ervice Provider Working Group goal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-constitute WG memb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urrent members not active enough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ossibly a function of having members not actually offering SIP services ye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 work to engage new SPs who are actually opera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ind the people with problem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elp them solve the ones we can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activit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nterconnect framewor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pose a 2nd activity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Open question for WG to answer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hould it remain “closed”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Ps like to speak freely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But closed WGs make it hard to get people involved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Question remains open at this tim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Combining two “old” working group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solidate “SIP Devices” and “Test Tools” into one “Technical WG”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en have “projects” with project leaders within the 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his is more akin to other industry Forum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lso helps outsiders understand structure bette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echnical working group goal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iew previously published documents; retire if appropriat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reate replacement for expired “SIP Services” draf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quested by IETF SIP WG chair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ncremental expansion of test ca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ork with MWG to create tutorials that can be given at show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Formalize Test Event working group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IPit and SIMPLEt events are already well handled by SIP Forum personnel.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o why create a WG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udgetary tracking for the Forum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rmalize participant activity to grow base of people who can help organize ev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ordinate activity to create web-based registration for all hosts to use for each even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(vs. host having to create new custom site each time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lies accepting, and flowing fees through to hosts.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224"/>
              </a:spcBef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hould have solid financial tracking for these funds.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Regulatory WG?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Ques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hould the Forum have  “Regulatory” working group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hould we use a RWG to re-package or re-use some of its assets to participate in regulatory activities of any kind?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roposal was voted down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ot appropriate use of limited Forum resourc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rum has no unique value to add, and little experien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Budget over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jor poi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ssume 10% growth in membership revenu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ubstantial re-alignment in MWG spending; some increas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dest increases in other WG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inimize management expen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e number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venue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265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pex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229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t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36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G opex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WG: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127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ech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30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P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14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388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est event WG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    2K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tructural changes recommended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structure WG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s specified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-state chart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urrent charters not wholly accurate given current activities of each 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lus, some were just written badly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y-Laws chang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ost changes mechanica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Recommendations are the result of a review of operations since 1997, and comparing the “reality” of how w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Futura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 to operate vs. existing Bylaws requirem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Samples of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recommended bylaws chang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prior-approval requirement for expenses of Directors or Managing Directo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Within ceiling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requirement of WG members to pay WG expens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llow forum to create IPR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(Required for test case software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rove Director election mechanic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ermit e-voting via “certifiable” mean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re clearly specify what happens when full member is acquired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ften notice requirement for board decis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move requirement for Board action to “approve” application for full membership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liminate prohibition on paying for professional Forum management assistanc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preliminari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urrent member count: 48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embers in good standing:  46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Quorum requirement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4 for normal business; 32 for Bylaws chang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(Can be satisfied by presence or proxy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ttendance count: &lt;insert&gt;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roxy count: &lt;insert&gt;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matters -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Board of Directors candidat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523880"/>
          <a:ext cx="7503840" cy="4078080"/>
        </p:xfrm>
        <a:graphic>
          <a:graphicData uri="http://schemas.openxmlformats.org/drawingml/2006/table">
            <a:tbl>
              <a:tblPr/>
              <a:tblGrid>
                <a:gridCol w="5002560"/>
                <a:gridCol w="1210320"/>
                <a:gridCol w="12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didate 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tes 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cted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ve Oran - Cisco (existin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bert Sparks - Xten (existin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aela Guihat - Netr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an Johnston - M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ene Joncas - SIPqu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im Kruger - Poly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war Siddiqui - Ava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05120" y="632448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Top 5 vote quantities w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Voting matter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dministrative question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523880"/>
          <a:ext cx="7772400" cy="3505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A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ried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laws chan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3 requir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ard of Director liability disch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5 require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eeting agenda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eting operation setup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Nomination and voting for meeting chairman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Nomination and voting for two persons to verify meeting minute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Administrivia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istory: Review of auditors fiscal repor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Year ending June 30, 2004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Future: Brief review of 2005 consolidated plan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Confirmation of authorized voting members, quorum requirements, &amp; decision requirement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ading of items for voting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01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Board candidate announcements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201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Administrative items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Balloting, counting, and result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djourn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djournmen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ny remaining questions?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ank you for attending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eeting operation setup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eeting chairman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omin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inutes takers (2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omin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Votin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dministrivia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as meeting been properly notified?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nnual report / audit re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(Consult handout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mmary - Income (Swedish Kroner / Euro*)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mbership fe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598,13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75,251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perational expens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686,38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84,929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ther income &amp; expenses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    3,97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 1,315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fit before tax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76,260)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8,363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Profit after tax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 (92,410)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 (10,134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mmary - Balance Shee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Receivables &amp; prepaid exp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965,640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05,892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ash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888,751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07,120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/P, tax liability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0,98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,398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Deferred income, accr. exp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666,268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82,723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20720" indent="-27720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r" pos="5832360"/>
                <a:tab algn="r" pos="73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quity: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,188,123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30,290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"/>
          <p:cNvSpPr/>
          <p:nvPr/>
        </p:nvSpPr>
        <p:spPr>
          <a:xfrm>
            <a:off x="-70200" y="655308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1 SEK = 0.10966 Euro on 30 June 0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2005 Operating Plan Review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rganizational overview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Key challenges facing industry / forum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Work plans for each WG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udget summar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ructural changes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G realignmen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y-Laws chang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ember survey (spring 0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Identified key challenges for Forum (&amp; industry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e do some things well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IPit, SIMPLEt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Branding” among industry player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eed some serious improvements in other areas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to better articulate role and value of SIP Forum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Add more “business issue” focus to current technical focu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ore “output” (white papers, ….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for limited amount of technical docs not well-suited for, and complementary to IETF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Help make NAT/FW traversal issues go away (if we can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Expand selected technical activiti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Improve communications to members &amp; among developer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A key management point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We have a healthy balance sheet now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300,000 cash + current receivabl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revenue for 12 month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65,000+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xpected average monthly expens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19,000 (as forecast in submitted plan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€ 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225,000 for 12 month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clusion: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Members want us to “do” more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e have financial resources now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We have a good safety net, &amp; good spending contro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e are supposed to be a non-profit!  ;-)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o let’s spend the money needed to accomplish thing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ll we need is a plan….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Working group chairs charged with creating a plan for 2005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ake a plan to reach identified goal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Identify budget or other resourc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reate timelin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xecut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Be accountabl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52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"/>
              </a:rPr>
              <a:t>Marketing Working Group goal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Focus on white papers &amp; other communication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Key issues blocking pervasivenes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Advanced / consolidated SIP primer (per IETF request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ybrid devices analysis (SBC, …)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IP deployment success stories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Other activities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Update member recruitment material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Re-start newsletter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Improve PR around SIPit / SIMPLE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Improve visual identity &amp; ar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Spiff up website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Create “virtual conference” event using SIP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Engage with friendly industry analyst</a:t>
            </a: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reate metrics to measure success of MWG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NEED MORE volunte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But volunteers aren’t going to be enough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ome of this; so pay consultants if needed.</a:t>
            </a:r>
            <a:endParaRPr b="0" lang="en-US" sz="2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0:10:55Z</dcterms:created>
  <dc:creator>Jay Batson</dc:creator>
  <dc:description/>
  <dc:language>en-US</dc:language>
  <cp:lastModifiedBy>Jay Batson</cp:lastModifiedBy>
  <dcterms:modified xsi:type="dcterms:W3CDTF">2004-10-20T23:56:34Z</dcterms:modified>
  <cp:revision>4</cp:revision>
  <dc:subject/>
  <dc:title>SIP Forum General Meeting, Fiscal year ending June 30, 2004</dc:title>
</cp:coreProperties>
</file>